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91A0-748E-4F99-BBC1-0A52F4A9B0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CBB7-7ECD-4E21-8B52-8CDCB51A1A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AC1-3A3B-4E78-ABA8-C53CE633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C8E-3BA9-4804-826B-A7F84FB9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735-627C-4E70-94A4-884D6D83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AD2-7037-4B3D-B3AC-716F76BE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96A3-8481-474A-8B42-80C1EE83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964A-9D07-4A57-ADBE-E015C17C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516F-9699-45AC-9011-7CC338A5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229A-30D7-41B9-A116-191444D9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1A69-51BD-4049-A64C-EA149E56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4719-6B65-428E-81A4-C12408A7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8FF1-B282-4772-9011-5391FDBF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23C7-0C71-4F08-BCE5-D5FE0411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73B0-F763-494C-9E47-9D13789D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3668-EA46-4D90-BD44-F24A2F7C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2244-F45F-42C7-A925-3A2D9BF4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7465-B027-4EC6-8F00-D67845EE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F783-2DF1-40BA-9FA7-93F485B5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BAF4D-AD52-4609-8193-34BD7C0D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D17D1-8E20-4EBD-BEC1-3CD39467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183F5-54E9-410D-B931-53C13965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864B8-9909-4BBC-B737-39DAC1A3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43473-65D6-46D4-9751-FB6365FB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C2D-5522-4D56-B471-BEF77503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24923-872A-4DF6-AED3-6C6FA2FC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E30A4-1D9E-4753-81EE-AF25C7CA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BBD20-8C5B-46F1-84C5-73B90CDC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EC402-AD29-47C1-9F52-9BBD71B1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3CDBB-ABD6-4217-AFA6-77590E49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0C854-5473-4788-BC19-A8FD15A2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F7163-7C76-4AA3-9DF4-6D2556E0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FCCAA-03A3-4B3A-85B6-582AD72E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2A6FB-CC99-4496-8C70-B913921C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9844B-568F-4F13-A01E-B48F7AAC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E917-E139-4FBF-B8F8-DB54AF44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9486D-B80D-4D07-8C7E-7806F111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FFF80-14AD-4B2A-AD72-9710574C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1E2BB-8CB3-40EF-898E-E02542E0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E2B1C-1650-4F94-8E01-CF144001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1128C-DEFE-407E-B022-5D04C885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9175F-31F2-4EFF-9A13-DF21AAF5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75653-5B19-4D74-88A0-092A661C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F91D3-9A1A-4D9F-A31E-62EFB177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17CC7-CDE9-4314-87B1-C906C874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5D4C-3832-4071-AE0F-AF290DC0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0FAA-66EF-4990-99A7-A3CAE564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AF9-4391-4C22-B7D4-AAEF10EF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9C8-AC42-43E7-970A-091843D4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648-8C1E-46B5-A51D-4841CE5A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69D5-0F47-4F0E-8EFB-824ED85F75FF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87256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4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1DD0-FC23-4BDE-AB44-5544C065F07A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87256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3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     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ED74-2683-482A-A4B4-29F92E768B0B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Алгоритмизация и программирование, язык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,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10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8758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4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A1B4-E6E3-43B0-A849-D74A1984CE16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hyperlink" Target="mailto:eremin@pspu.ac.ru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cdonalds.com/" TargetMode="External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35240" y="4358880"/>
            <a:ext cx="64735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6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бота с файлам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D2A7-50A6-4A2A-A6AC-AC82E8251B1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массив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B8F3-7946-403C-9B04-DA9EB08B7D8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382680" y="801720"/>
            <a:ext cx="846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ы в столбик целые числа. Вывести в другой текстовый файл те же числа, отсортированные в порядке возрас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71"/>
          <p:cNvGrpSpPr/>
          <p:nvPr/>
        </p:nvGrpSpPr>
        <p:grpSpPr>
          <a:xfrm>
            <a:off x="430200" y="2035080"/>
            <a:ext cx="6521400" cy="663480"/>
            <a:chOff x="430200" y="2035080"/>
            <a:chExt cx="6521400" cy="663480"/>
          </a:xfrm>
        </p:grpSpPr>
        <p:sp>
          <p:nvSpPr>
            <p:cNvPr id="258" name="Text Box 69"/>
            <p:cNvSpPr/>
            <p:nvPr/>
          </p:nvSpPr>
          <p:spPr>
            <a:xfrm>
              <a:off x="919080" y="2114280"/>
              <a:ext cx="6032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В чем отличие от предыдущей задач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70"/>
            <p:cNvSpPr/>
            <p:nvPr/>
          </p:nvSpPr>
          <p:spPr>
            <a:xfrm>
              <a:off x="430200" y="2035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71"/>
          <p:cNvGrpSpPr/>
          <p:nvPr/>
        </p:nvGrpSpPr>
        <p:grpSpPr>
          <a:xfrm>
            <a:off x="430200" y="2832120"/>
            <a:ext cx="8196120" cy="904680"/>
            <a:chOff x="430200" y="2832120"/>
            <a:chExt cx="8196120" cy="904680"/>
          </a:xfrm>
        </p:grpSpPr>
        <p:sp>
          <p:nvSpPr>
            <p:cNvPr id="261" name="Text Box 69"/>
            <p:cNvSpPr/>
            <p:nvPr/>
          </p:nvSpPr>
          <p:spPr>
            <a:xfrm>
              <a:off x="919080" y="2911320"/>
              <a:ext cx="77072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Для сортировки нужно удерживать все элементы в памяти одновременно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70"/>
            <p:cNvSpPr/>
            <p:nvPr/>
          </p:nvSpPr>
          <p:spPr>
            <a:xfrm>
              <a:off x="430200" y="2832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массив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836B-844E-423D-89AC-2770F4583BC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3"/>
          <p:cNvSpPr/>
          <p:nvPr/>
        </p:nvSpPr>
        <p:spPr>
          <a:xfrm>
            <a:off x="397440" y="81900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масси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"/>
          <p:cNvSpPr/>
          <p:nvPr/>
        </p:nvSpPr>
        <p:spPr>
          <a:xfrm>
            <a:off x="625320" y="1303200"/>
            <a:ext cx="7948800" cy="2021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Tru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 not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: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append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9"/>
          <p:cNvSpPr/>
          <p:nvPr/>
        </p:nvSpPr>
        <p:spPr>
          <a:xfrm>
            <a:off x="400320" y="3357720"/>
            <a:ext cx="33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625320" y="3821040"/>
            <a:ext cx="7948800" cy="879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1"/>
          <p:cNvSpPr/>
          <p:nvPr/>
        </p:nvSpPr>
        <p:spPr>
          <a:xfrm>
            <a:off x="394920" y="4821120"/>
            <a:ext cx="20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ртиров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"/>
          <p:cNvSpPr/>
          <p:nvPr/>
        </p:nvSpPr>
        <p:spPr>
          <a:xfrm>
            <a:off x="625320" y="5283360"/>
            <a:ext cx="2505240" cy="47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массив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936E-FF63-4014-B2C4-CB288B3FFD7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"/>
          <p:cNvSpPr/>
          <p:nvPr/>
        </p:nvSpPr>
        <p:spPr>
          <a:xfrm>
            <a:off x="400320" y="819000"/>
            <a:ext cx="30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д результ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625320" y="1303200"/>
            <a:ext cx="7948800" cy="1257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out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tr(A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lo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391320" y="257328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625320" y="3035160"/>
            <a:ext cx="7948800" cy="890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t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+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\n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6013800" y="1716120"/>
            <a:ext cx="182664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2, 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9"/>
          <p:cNvSpPr/>
          <p:nvPr/>
        </p:nvSpPr>
        <p:spPr>
          <a:xfrm>
            <a:off x="7524720" y="3071880"/>
            <a:ext cx="363600" cy="11912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0"/>
          <p:cNvSpPr/>
          <p:nvPr/>
        </p:nvSpPr>
        <p:spPr>
          <a:xfrm>
            <a:off x="391320" y="403560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"/>
          <p:cNvSpPr/>
          <p:nvPr/>
        </p:nvSpPr>
        <p:spPr>
          <a:xfrm>
            <a:off x="625320" y="4498920"/>
            <a:ext cx="7948800" cy="890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4d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2"/>
          <p:cNvSpPr/>
          <p:nvPr/>
        </p:nvSpPr>
        <p:spPr>
          <a:xfrm>
            <a:off x="5886360" y="5589720"/>
            <a:ext cx="26877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E735-B23C-4CD7-A759-63A26ACE819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369720" y="809640"/>
            <a:ext cx="86662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в столбик записаны числа. Отсортировать их по возрастанию последней цифры и записать в другой фай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в столбик записаны числа. Отсортировать их по возрастанию суммы цифр и записать в другой файл. Используйте функцию, которая вычисляет сумму цифр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двух файлах записаны отсортированные по возрастанию массивы неизвестной длины. Объединить их и записать результат в третий файл. Полученный массив также должен быть отсортирован по возрастан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B5E7-F1C0-4C08-8C58-972C45BAB2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3"/>
          <p:cNvSpPr/>
          <p:nvPr/>
        </p:nvSpPr>
        <p:spPr>
          <a:xfrm>
            <a:off x="382680" y="801720"/>
            <a:ext cx="846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о данные о собаках: в каждой строчке кличка собаки, ее возраст и по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Мухтар 4 немецкая овчар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ести в другой файл сведения о собаках, которым меньше 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625320" y="2851200"/>
            <a:ext cx="7948800" cy="1954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не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онец файла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прочитать строку из файла 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обрать строку – выделить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возраст &lt;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аписать строку в файл F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ение данных из фай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C440-6283-4086-934F-9A8F22523E4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5"/>
          <p:cNvSpPr/>
          <p:nvPr/>
        </p:nvSpPr>
        <p:spPr>
          <a:xfrm>
            <a:off x="400320" y="81900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ение одной стро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"/>
          <p:cNvSpPr/>
          <p:nvPr/>
        </p:nvSpPr>
        <p:spPr>
          <a:xfrm>
            <a:off x="625320" y="1235160"/>
            <a:ext cx="7948800" cy="485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4"/>
          <p:cNvSpPr/>
          <p:nvPr/>
        </p:nvSpPr>
        <p:spPr>
          <a:xfrm>
            <a:off x="402120" y="174456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бивка по пробел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625320" y="2160720"/>
            <a:ext cx="7948800" cy="485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7"/>
          <p:cNvSpPr/>
          <p:nvPr/>
        </p:nvSpPr>
        <p:spPr>
          <a:xfrm>
            <a:off x="403200" y="265896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деление возра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"/>
          <p:cNvSpPr/>
          <p:nvPr/>
        </p:nvSpPr>
        <p:spPr>
          <a:xfrm>
            <a:off x="625320" y="3075120"/>
            <a:ext cx="7948800" cy="850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9"/>
          <p:cNvSpPr/>
          <p:nvPr/>
        </p:nvSpPr>
        <p:spPr>
          <a:xfrm>
            <a:off x="399600" y="39276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ратко всё вмес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"/>
          <p:cNvSpPr/>
          <p:nvPr/>
        </p:nvSpPr>
        <p:spPr>
          <a:xfrm>
            <a:off x="625320" y="4354560"/>
            <a:ext cx="7948800" cy="852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[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5EC4-2861-4526-9C91-C7F4D8133A2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461880" y="1324080"/>
            <a:ext cx="8423280" cy="378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out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Tru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 not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: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407880" y="80964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ная програм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ABC9-9793-4104-AB07-04D1923154A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"/>
          <p:cNvSpPr/>
          <p:nvPr/>
        </p:nvSpPr>
        <p:spPr>
          <a:xfrm>
            <a:off x="461880" y="1324080"/>
            <a:ext cx="8423280" cy="1957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4"/>
          <p:cNvSpPr/>
          <p:nvPr/>
        </p:nvSpPr>
        <p:spPr>
          <a:xfrm>
            <a:off x="399240" y="80964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461880" y="3895560"/>
            <a:ext cx="8423280" cy="1570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6"/>
          <p:cNvSpPr/>
          <p:nvPr/>
        </p:nvSpPr>
        <p:spPr>
          <a:xfrm>
            <a:off x="399240" y="338148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ABC1-32D3-4832-8444-04E2C4068B1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369720" y="809640"/>
            <a:ext cx="86662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записаны данные о результатах сдачи экзамена. Каждая строка содержит фамилию, имя и количество баллов, разделенные пробела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Фамилия&gt; &lt;Имя&gt; &lt;Количество баллов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ести в другой файл фамилии и имена тех учеников, которые получили больше 80 балл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едыдущей задаче добавить к полученному списку нумерацию, сократить имя до одной буквы и поставить перед фамилие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П. Ив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И. Пет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979A-981F-4C01-8E12-F5BAEC0E3F9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69720" y="809640"/>
            <a:ext cx="8666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записаны данные о результатах сдачи экзамена. Каждая строка содержит фамилию, имя и количество баллов, разделенные пробела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Фамилия&gt; &lt;Имя&gt; &lt;Количество баллов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ести в другой файл данные учеников, которые получили больше 80 баллов.  Список должен быть отсортирован по убыванию балла. Формат выходных данных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П. Иванов</a:t>
            </a: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 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И. Петров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9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работать с файлам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3C3C-44FE-468B-B208-D96FCE43FDC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5"/>
          <p:cNvSpPr/>
          <p:nvPr/>
        </p:nvSpPr>
        <p:spPr>
          <a:xfrm>
            <a:off x="2970360" y="1004760"/>
            <a:ext cx="2317680" cy="59688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6"/>
          <p:cNvSpPr/>
          <p:nvPr/>
        </p:nvSpPr>
        <p:spPr>
          <a:xfrm>
            <a:off x="968400" y="2254320"/>
            <a:ext cx="2317680" cy="59688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4970520" y="2254320"/>
            <a:ext cx="2317680" cy="59688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и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Блок-схема: процесс 8"/>
          <p:cNvSpPr/>
          <p:nvPr/>
        </p:nvSpPr>
        <p:spPr>
          <a:xfrm>
            <a:off x="407880" y="2906640"/>
            <a:ext cx="4191120" cy="2017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plain tex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, разбитый на стро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специальных символов только символы перехода на нов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Блок-схема: процесс 9"/>
          <p:cNvSpPr/>
          <p:nvPr/>
        </p:nvSpPr>
        <p:spPr>
          <a:xfrm>
            <a:off x="4843440" y="2906640"/>
            <a:ext cx="4192560" cy="2017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ые симв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ки, звуки, видео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Группа 12"/>
          <p:cNvGrpSpPr/>
          <p:nvPr/>
        </p:nvGrpSpPr>
        <p:grpSpPr>
          <a:xfrm>
            <a:off x="2743200" y="1601640"/>
            <a:ext cx="2589120" cy="652680"/>
            <a:chOff x="2743200" y="1601640"/>
            <a:chExt cx="2589120" cy="652680"/>
          </a:xfrm>
        </p:grpSpPr>
        <p:sp>
          <p:nvSpPr>
            <p:cNvPr id="187" name="Полилиния 10"/>
            <p:cNvSpPr/>
            <p:nvPr/>
          </p:nvSpPr>
          <p:spPr>
            <a:xfrm>
              <a:off x="2743200" y="1601640"/>
              <a:ext cx="1294560" cy="652680"/>
            </a:xfrm>
            <a:custGeom>
              <a:avLst/>
              <a:gdLst>
                <a:gd name="textAreaLeft" fmla="*/ 0 w 1294560"/>
                <a:gd name="textAreaRight" fmla="*/ 1294920 w 129456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294646" h="651850">
                  <a:moveTo>
                    <a:pt x="1294646" y="0"/>
                  </a:moveTo>
                  <a:lnTo>
                    <a:pt x="0" y="6518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Полилиния 11"/>
            <p:cNvSpPr/>
            <p:nvPr/>
          </p:nvSpPr>
          <p:spPr>
            <a:xfrm flipH="1">
              <a:off x="4037760" y="1601640"/>
              <a:ext cx="1294560" cy="652680"/>
            </a:xfrm>
            <a:custGeom>
              <a:avLst/>
              <a:gdLst>
                <a:gd name="textAreaLeft" fmla="*/ 360 w 1294560"/>
                <a:gd name="textAreaRight" fmla="*/ 1295280 w 129456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294646" h="651850">
                  <a:moveTo>
                    <a:pt x="1294646" y="0"/>
                  </a:moveTo>
                  <a:lnTo>
                    <a:pt x="0" y="6518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546B-41CE-4456-BD51-FF50A5034F8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4"/>
          <p:cNvSpPr/>
          <p:nvPr/>
        </p:nvSpPr>
        <p:spPr>
          <a:xfrm>
            <a:off x="162000" y="1676520"/>
            <a:ext cx="8820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РЕМИН Евгений Александ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ф.-м.н., доцент кафедры мультимедийной дидактики и ИТО ПГГПУ, г. Перм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eremin@pspu.ac.r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точники иллюст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C050-8B23-44E9-8C2E-003E4C92A58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392040" y="812880"/>
            <a:ext cx="808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ww.mcdonalds.com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и художников издательства «Бин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ские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нцип сэндвич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3CFA-798D-48D0-837B-46D0DF60D5C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Группа 33"/>
          <p:cNvGrpSpPr/>
          <p:nvPr/>
        </p:nvGrpSpPr>
        <p:grpSpPr>
          <a:xfrm>
            <a:off x="5395680" y="1111320"/>
            <a:ext cx="2549880" cy="357120"/>
            <a:chOff x="5395680" y="1111320"/>
            <a:chExt cx="2549880" cy="357120"/>
          </a:xfrm>
        </p:grpSpPr>
        <p:sp>
          <p:nvSpPr>
            <p:cNvPr id="193" name="Text Box 10"/>
            <p:cNvSpPr/>
            <p:nvPr/>
          </p:nvSpPr>
          <p:spPr>
            <a:xfrm>
              <a:off x="5871600" y="1111320"/>
              <a:ext cx="2073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открыть фай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9"/>
            <p:cNvSpPr/>
            <p:nvPr/>
          </p:nvSpPr>
          <p:spPr>
            <a:xfrm flipV="1" rot="16200000">
              <a:off x="5487480" y="1092960"/>
              <a:ext cx="221400" cy="405000"/>
            </a:xfrm>
            <a:prstGeom prst="downArrow">
              <a:avLst>
                <a:gd name="adj1" fmla="val 40000"/>
                <a:gd name="adj2" fmla="val 69732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34"/>
          <p:cNvGrpSpPr/>
          <p:nvPr/>
        </p:nvGrpSpPr>
        <p:grpSpPr>
          <a:xfrm>
            <a:off x="5395680" y="1744560"/>
            <a:ext cx="2754720" cy="357120"/>
            <a:chOff x="5395680" y="1744560"/>
            <a:chExt cx="2754720" cy="357120"/>
          </a:xfrm>
        </p:grpSpPr>
        <p:sp>
          <p:nvSpPr>
            <p:cNvPr id="196" name="AutoShape 8"/>
            <p:cNvSpPr/>
            <p:nvPr/>
          </p:nvSpPr>
          <p:spPr>
            <a:xfrm flipV="1" rot="16200000">
              <a:off x="5487480" y="1712520"/>
              <a:ext cx="221400" cy="405000"/>
            </a:xfrm>
            <a:prstGeom prst="downArrow">
              <a:avLst>
                <a:gd name="adj1" fmla="val 40000"/>
                <a:gd name="adj2" fmla="val 69732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"/>
            <p:cNvSpPr/>
            <p:nvPr/>
          </p:nvSpPr>
          <p:spPr>
            <a:xfrm>
              <a:off x="5871600" y="1744560"/>
              <a:ext cx="22788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работа с  файл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Группа 35"/>
          <p:cNvGrpSpPr/>
          <p:nvPr/>
        </p:nvGrpSpPr>
        <p:grpSpPr>
          <a:xfrm>
            <a:off x="5395680" y="2351160"/>
            <a:ext cx="2445120" cy="355680"/>
            <a:chOff x="5395680" y="2351160"/>
            <a:chExt cx="2445120" cy="355680"/>
          </a:xfrm>
        </p:grpSpPr>
        <p:sp>
          <p:nvSpPr>
            <p:cNvPr id="199" name="AutoShape 7"/>
            <p:cNvSpPr/>
            <p:nvPr/>
          </p:nvSpPr>
          <p:spPr>
            <a:xfrm flipV="1" rot="16200000">
              <a:off x="5487840" y="2332440"/>
              <a:ext cx="220320" cy="405000"/>
            </a:xfrm>
            <a:prstGeom prst="downArrow">
              <a:avLst>
                <a:gd name="adj1" fmla="val 40000"/>
                <a:gd name="adj2" fmla="val 70074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"/>
            <p:cNvSpPr/>
            <p:nvPr/>
          </p:nvSpPr>
          <p:spPr>
            <a:xfrm>
              <a:off x="5871600" y="2351160"/>
              <a:ext cx="1969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закрыть фай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4"/>
          <p:cNvSpPr/>
          <p:nvPr/>
        </p:nvSpPr>
        <p:spPr>
          <a:xfrm>
            <a:off x="939960" y="1174680"/>
            <a:ext cx="865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хле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39960" y="2298600"/>
            <a:ext cx="865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хле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615960" y="1736640"/>
            <a:ext cx="1125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ч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5" descr=""/>
          <p:cNvPicPr/>
          <p:nvPr/>
        </p:nvPicPr>
        <p:blipFill>
          <a:blip r:embed="rId1"/>
          <a:srcRect l="0" t="0" r="1536" b="3465"/>
          <a:stretch/>
        </p:blipFill>
        <p:spPr>
          <a:xfrm>
            <a:off x="1928880" y="2101680"/>
            <a:ext cx="3316320" cy="858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4" descr=""/>
          <p:cNvPicPr/>
          <p:nvPr/>
        </p:nvPicPr>
        <p:blipFill>
          <a:blip r:embed="rId2"/>
          <a:stretch/>
        </p:blipFill>
        <p:spPr>
          <a:xfrm>
            <a:off x="2014560" y="1017720"/>
            <a:ext cx="3224160" cy="582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4" descr=""/>
          <p:cNvPicPr/>
          <p:nvPr/>
        </p:nvPicPr>
        <p:blipFill>
          <a:blip r:embed="rId3"/>
          <a:stretch/>
        </p:blipFill>
        <p:spPr>
          <a:xfrm>
            <a:off x="1936800" y="1481040"/>
            <a:ext cx="3405240" cy="10940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5"/>
          <p:cNvSpPr/>
          <p:nvPr/>
        </p:nvSpPr>
        <p:spPr>
          <a:xfrm>
            <a:off x="896760" y="3877200"/>
            <a:ext cx="74692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out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здесь работаем с фай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ая прямоугольная выноска 36"/>
          <p:cNvSpPr/>
          <p:nvPr/>
        </p:nvSpPr>
        <p:spPr>
          <a:xfrm>
            <a:off x="376200" y="2968560"/>
            <a:ext cx="3762360" cy="770040"/>
          </a:xfrm>
          <a:prstGeom prst="wedgeRoundRectCallout">
            <a:avLst>
              <a:gd name="adj1" fmla="val -25231"/>
              <a:gd name="adj2" fmla="val 7587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йловые переменные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каза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21"/>
          <p:cNvSpPr/>
          <p:nvPr/>
        </p:nvSpPr>
        <p:spPr>
          <a:xfrm>
            <a:off x="5628240" y="5075280"/>
            <a:ext cx="310680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за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б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олилиния 22"/>
          <p:cNvSpPr/>
          <p:nvPr/>
        </p:nvSpPr>
        <p:spPr>
          <a:xfrm>
            <a:off x="6283440" y="4603680"/>
            <a:ext cx="311040" cy="549360"/>
          </a:xfrm>
          <a:custGeom>
            <a:avLst/>
            <a:gdLst>
              <a:gd name="textAreaLeft" fmla="*/ 0 w 311040"/>
              <a:gd name="textAreaRight" fmla="*/ 311400 w 311040"/>
              <a:gd name="textAreaTop" fmla="*/ 0 h 549360"/>
              <a:gd name="textAreaBottom" fmla="*/ 549360 h 549360"/>
            </a:gdLst>
            <a:ahLst/>
            <a:rect l="textAreaLeft" t="textAreaTop" r="textAreaRight" b="textAreaBottom"/>
            <a:pathLst>
              <a:path w="606055" h="765544">
                <a:moveTo>
                  <a:pt x="0" y="765544"/>
                </a:moveTo>
                <a:cubicBezTo>
                  <a:pt x="31898" y="510363"/>
                  <a:pt x="606055" y="414669"/>
                  <a:pt x="95693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ая прямоугольная выноска 23"/>
          <p:cNvSpPr/>
          <p:nvPr/>
        </p:nvSpPr>
        <p:spPr>
          <a:xfrm>
            <a:off x="4506840" y="2968560"/>
            <a:ext cx="3762360" cy="770040"/>
          </a:xfrm>
          <a:prstGeom prst="wedgeRoundRectCallout">
            <a:avLst>
              <a:gd name="adj1" fmla="val -33810"/>
              <a:gd name="adj2" fmla="val 7587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умолчанию – на чтение (режим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r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2F3F-13CD-41BE-9A6B-A51F248D0C9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5"/>
          <p:cNvSpPr/>
          <p:nvPr/>
        </p:nvSpPr>
        <p:spPr>
          <a:xfrm>
            <a:off x="561960" y="888480"/>
            <a:ext cx="7469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pen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xt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5"/>
          <p:cNvSpPr/>
          <p:nvPr/>
        </p:nvSpPr>
        <p:spPr>
          <a:xfrm>
            <a:off x="561960" y="1856880"/>
            <a:ext cx="7469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"1 2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3"/>
          <p:cNvSpPr/>
          <p:nvPr/>
        </p:nvSpPr>
        <p:spPr>
          <a:xfrm>
            <a:off x="396000" y="1400040"/>
            <a:ext cx="24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ение стро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4"/>
          <p:cNvSpPr/>
          <p:nvPr/>
        </p:nvSpPr>
        <p:spPr>
          <a:xfrm>
            <a:off x="412920" y="2389320"/>
            <a:ext cx="62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ение строки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разбивка по пробел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561960" y="2888640"/>
            <a:ext cx="8356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"1","2"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6"/>
          <p:cNvSpPr/>
          <p:nvPr/>
        </p:nvSpPr>
        <p:spPr>
          <a:xfrm>
            <a:off x="401040" y="33796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ение целых чисе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5"/>
          <p:cNvSpPr/>
          <p:nvPr/>
        </p:nvSpPr>
        <p:spPr>
          <a:xfrm>
            <a:off x="561960" y="3837600"/>
            <a:ext cx="8356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"1","2"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[0])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[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8"/>
          <p:cNvSpPr/>
          <p:nvPr/>
        </p:nvSpPr>
        <p:spPr>
          <a:xfrm>
            <a:off x="391320" y="469260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561960" y="5147640"/>
            <a:ext cx="8356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[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0"/>
          <p:cNvSpPr/>
          <p:nvPr/>
        </p:nvSpPr>
        <p:spPr>
          <a:xfrm>
            <a:off x="391320" y="556272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5"/>
          <p:cNvSpPr/>
          <p:nvPr/>
        </p:nvSpPr>
        <p:spPr>
          <a:xfrm>
            <a:off x="561960" y="6019200"/>
            <a:ext cx="8356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данных в фай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70A4-9CAA-42D9-BC2F-BD841E591DA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5"/>
          <p:cNvSpPr/>
          <p:nvPr/>
        </p:nvSpPr>
        <p:spPr>
          <a:xfrm>
            <a:off x="471600" y="913680"/>
            <a:ext cx="8353440" cy="2364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output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d} + {:d} = {:d}\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+b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.close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71"/>
          <p:cNvGrpSpPr/>
          <p:nvPr/>
        </p:nvGrpSpPr>
        <p:grpSpPr>
          <a:xfrm>
            <a:off x="933480" y="3468600"/>
            <a:ext cx="7188120" cy="663480"/>
            <a:chOff x="933480" y="3468600"/>
            <a:chExt cx="7188120" cy="663480"/>
          </a:xfrm>
        </p:grpSpPr>
        <p:sp>
          <p:nvSpPr>
            <p:cNvPr id="229" name="Text Box 69"/>
            <p:cNvSpPr/>
            <p:nvPr/>
          </p:nvSpPr>
          <p:spPr>
            <a:xfrm>
              <a:off x="1422360" y="3547800"/>
              <a:ext cx="669924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Все данные преобразовать в строку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70"/>
            <p:cNvSpPr/>
            <p:nvPr/>
          </p:nvSpPr>
          <p:spPr>
            <a:xfrm>
              <a:off x="933480" y="3468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ение неизвестного количества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3810-FF31-4DF7-802B-DE0B313B125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5"/>
          <p:cNvSpPr/>
          <p:nvPr/>
        </p:nvSpPr>
        <p:spPr>
          <a:xfrm>
            <a:off x="471600" y="1667880"/>
            <a:ext cx="746892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не конец фай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прочитать число из фай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добавить его к сум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382680" y="80172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о в столбик неизвестное количество чисел.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5"/>
          <p:cNvSpPr/>
          <p:nvPr/>
        </p:nvSpPr>
        <p:spPr>
          <a:xfrm>
            <a:off x="471600" y="3296520"/>
            <a:ext cx="746892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ru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 no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: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lo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ая прямоугольная выноска 9"/>
          <p:cNvSpPr/>
          <p:nvPr/>
        </p:nvSpPr>
        <p:spPr>
          <a:xfrm>
            <a:off x="4643280" y="3948120"/>
            <a:ext cx="3764160" cy="770040"/>
          </a:xfrm>
          <a:prstGeom prst="wedgeRoundRectCallout">
            <a:avLst>
              <a:gd name="adj1" fmla="val -66648"/>
              <a:gd name="adj2" fmla="val 393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конец файла, вернёт пуст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ение неизвестного количества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6F50-F65B-4BF8-ABA5-A0F5E26B7F9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4"/>
          <p:cNvSpPr/>
          <p:nvPr/>
        </p:nvSpPr>
        <p:spPr>
          <a:xfrm>
            <a:off x="382680" y="80172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о в столбик неизвестное количество чисел.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471600" y="1798920"/>
            <a:ext cx="74689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lo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ая прямоугольная выноска 7"/>
          <p:cNvSpPr/>
          <p:nvPr/>
        </p:nvSpPr>
        <p:spPr>
          <a:xfrm>
            <a:off x="4159080" y="3065400"/>
            <a:ext cx="3764160" cy="770040"/>
          </a:xfrm>
          <a:prstGeom prst="wedgeRoundRectCallout">
            <a:avLst>
              <a:gd name="adj1" fmla="val -72365"/>
              <a:gd name="adj2" fmla="val -6547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ть все строки в список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ение неизвестного количества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50DB-96E5-4108-BBFA-8BB61B2924D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382680" y="80172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о в столбик неизвестное количество чисел.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5"/>
          <p:cNvSpPr/>
          <p:nvPr/>
        </p:nvSpPr>
        <p:spPr>
          <a:xfrm>
            <a:off x="471600" y="1795680"/>
            <a:ext cx="74689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wit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n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71"/>
          <p:cNvGrpSpPr/>
          <p:nvPr/>
        </p:nvGrpSpPr>
        <p:grpSpPr>
          <a:xfrm>
            <a:off x="1547640" y="5389560"/>
            <a:ext cx="5467320" cy="663480"/>
            <a:chOff x="1547640" y="5389560"/>
            <a:chExt cx="5467320" cy="663480"/>
          </a:xfrm>
        </p:grpSpPr>
        <p:sp>
          <p:nvSpPr>
            <p:cNvPr id="247" name="Text Box 69"/>
            <p:cNvSpPr/>
            <p:nvPr/>
          </p:nvSpPr>
          <p:spPr>
            <a:xfrm>
              <a:off x="2036520" y="5468760"/>
              <a:ext cx="497844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Не нужно закрывать файл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0"/>
            <p:cNvSpPr/>
            <p:nvPr/>
          </p:nvSpPr>
          <p:spPr>
            <a:xfrm>
              <a:off x="1547640" y="53895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Прямоугольник 13"/>
          <p:cNvSpPr/>
          <p:nvPr/>
        </p:nvSpPr>
        <p:spPr>
          <a:xfrm>
            <a:off x="391320" y="338760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5"/>
          <p:cNvSpPr/>
          <p:nvPr/>
        </p:nvSpPr>
        <p:spPr>
          <a:xfrm>
            <a:off x="471600" y="3898440"/>
            <a:ext cx="74689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in</a:t>
            </a: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FBBE-3AC9-4385-B72B-EB70861F530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369720" y="809640"/>
            <a:ext cx="8666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среднее арифметическое всех чисел, записанных в файле в столбик, и выводит результат в другой фай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минимальное и максимальное среди чётных положительных чисел, записанных в файле, и выводит результат в другой файл. Учтите, что таких чисел может вообще не бы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в столбик записаны целые числа, сколько их – неизвестно. Напишите программу, которая определяет длину самой длинной цепочки идущих подряд одинаковых чисел и выводит результат в другой фай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555</cp:lastModifiedBy>
  <dcterms:modified xsi:type="dcterms:W3CDTF">2023-04-06T09:14:43Z</dcterms:modified>
  <cp:revision>1794</cp:revision>
  <dc:subject/>
  <dc:title>Программное обеспечение (ПО)</dc:title>
</cp:coreProperties>
</file>